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1.gif" ContentType="image/gif"/>
  <Override PartName="/ppt/media/image14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gif" ContentType="image/gif"/>
  <Override PartName="/ppt/media/image17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1.jpeg" ContentType="image/jpeg"/>
  <Override PartName="/ppt/media/image22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806-3614-4CD5-AC79-C8BDCFC1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BD68-53CD-4274-ACF8-6E98C429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FD8-7D7D-4A3F-89D3-D1E239BA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BA2-805C-4F72-9B69-E7C02504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30BA-B8D6-4E68-B0F0-7CE5917C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2007-0730-4BE2-9236-8F8A0697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AD21-6AAD-46CA-BE74-FBA0EF33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3F3B-719F-482C-A407-D442A1E0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4AB4-0166-4C66-80AD-4EEFEEFB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8952-5C9B-49A2-A2CD-FB9FBEB7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F5D8-FB95-4182-A6BA-DE3444E7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668-AA03-4573-B570-18A7DF34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0639-BDE3-4B87-B068-2138A4F8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5A90-177C-49FD-B010-8D098246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C204-8297-438E-914A-6AEEBDFF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3682-3465-4EE8-8370-90E56040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AC84-E79C-431E-A9C3-699F1950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A4B5B-90C2-4988-BBA6-DF0EF41C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4BC2D-FF37-4451-B742-034214E3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31BA2-F369-4769-AA06-3AB7C6D3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FCFD5-01CA-409E-BABA-31A1AC83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DCC52-3FF9-4B55-A9B9-7C4FF617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32FD-F038-49D0-ADF1-1550F0CF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04387-C083-4726-BCFD-5A402B5E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C654-E1FF-439C-B493-38E7A0C4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1EF6A-7F36-4034-A80F-1FA5FFDB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4C71E-DD65-416D-A739-A5C9ABFD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1D47-A90D-4679-8B10-4B7ABE28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B517A-BAA3-4DD6-BF42-4E9F0607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8DA8-D310-4E5A-B1DC-6ED042B8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C77E4-BB55-4986-A8B7-6DABC470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B0D57-2AFC-4E27-9B79-F523687E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3FBE0-A16C-4B72-AB87-B0381505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6BE-8C99-4590-A332-099A6241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A92C1-D691-44B2-A9F2-250D15E7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8E598-38A8-4EDD-A39A-731B0242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E5A9-4F87-45A4-8DB2-93833AD7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266C3-D473-45F1-A4D3-B79FE688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EBE1-A5D8-466D-AB9F-A0C9A3D3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60C7A-58B6-4998-B6D6-3EFDED37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78385-151A-4D4C-9112-6884A8F9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C7785-F4E6-4E7B-BF9B-38AD78AA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BF238-F132-4713-9F5A-5DC285CA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F62-82C3-4A86-9554-3D2CB638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B2D-EA75-4A4C-AFED-D0D0F195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0FAD-A216-43D2-9810-933F751D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02B-E2B5-4D38-921E-EF3EEB72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F74-D1C9-468B-8457-FD73649A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8092-3EE8-4772-B05A-B967C2DBD217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6EF8-2FFF-481C-84E2-5A1F7EA7C54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8250-858D-46B2-A822-DE3860AB4CD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4D34-00DF-4FA9-8561-B817F2829E7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itle 1" descr=""/>
          <p:cNvPicPr/>
          <p:nvPr/>
        </p:nvPicPr>
        <p:blipFill>
          <a:blip r:embed="rId1"/>
          <a:stretch/>
        </p:blipFill>
        <p:spPr>
          <a:xfrm>
            <a:off x="414360" y="1042920"/>
            <a:ext cx="8242200" cy="23655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andon Johns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haniel Johns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onny Gre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6" name="Picture 3" descr="C:\Users\Johnson Family\AppData\Local\Microsoft\Windows\Temporary Internet Files\Content.IE5\ZH9BSLII\MM900283178[1].gif"/>
          <p:cNvPicPr/>
          <p:nvPr/>
        </p:nvPicPr>
        <p:blipFill>
          <a:blip r:embed="rId2"/>
          <a:stretch/>
        </p:blipFill>
        <p:spPr>
          <a:xfrm>
            <a:off x="3809880" y="5181480"/>
            <a:ext cx="112392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1520" cy="11588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Winning Primary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oter Signatur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me of Ballo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cumbent Advantag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phomore Surg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crease in votes second time after being elected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ue to Individual Emphas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3" name="Picture 2" descr="http://static.ddmcdn.com/gif/primary-2.jpg"/>
          <p:cNvPicPr/>
          <p:nvPr/>
        </p:nvPicPr>
        <p:blipFill>
          <a:blip r:embed="rId2"/>
          <a:stretch/>
        </p:blipFill>
        <p:spPr>
          <a:xfrm>
            <a:off x="4800600" y="2209680"/>
            <a:ext cx="3809880" cy="2543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Johnson Family\AppData\Local\Microsoft\Windows\Temporary Internet Files\Content.IE5\0B0427GR\MM900173989[1].gif"/>
          <p:cNvPicPr/>
          <p:nvPr/>
        </p:nvPicPr>
        <p:blipFill>
          <a:blip r:embed="rId3"/>
          <a:stretch/>
        </p:blipFill>
        <p:spPr>
          <a:xfrm>
            <a:off x="6324480" y="4876920"/>
            <a:ext cx="914400" cy="12477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1520" cy="1158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taying in Offic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enefit Stat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rve of Committee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legate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ruste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8" name="Picture 2" descr="File:Bruce Braley official 110th Congress photo portrait.jpg"/>
          <p:cNvPicPr/>
          <p:nvPr/>
        </p:nvPicPr>
        <p:blipFill>
          <a:blip r:embed="rId2"/>
          <a:stretch/>
        </p:blipFill>
        <p:spPr>
          <a:xfrm>
            <a:off x="4648320" y="1295280"/>
            <a:ext cx="1733400" cy="2608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File:David Loebsack official 110th Congress photo portrait.jpg"/>
          <p:cNvPicPr/>
          <p:nvPr/>
        </p:nvPicPr>
        <p:blipFill>
          <a:blip r:embed="rId3"/>
          <a:stretch/>
        </p:blipFill>
        <p:spPr>
          <a:xfrm>
            <a:off x="6858000" y="1295280"/>
            <a:ext cx="1733400" cy="2608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File:Tom Latham, official photo portrait, color.jpg"/>
          <p:cNvPicPr/>
          <p:nvPr/>
        </p:nvPicPr>
        <p:blipFill>
          <a:blip r:embed="rId4"/>
          <a:stretch/>
        </p:blipFill>
        <p:spPr>
          <a:xfrm>
            <a:off x="4648320" y="4038480"/>
            <a:ext cx="1857240" cy="2659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File:Steve King, official Congressional photo portrait.jpg"/>
          <p:cNvPicPr/>
          <p:nvPr/>
        </p:nvPicPr>
        <p:blipFill>
          <a:blip r:embed="rId5"/>
          <a:stretch/>
        </p:blipFill>
        <p:spPr>
          <a:xfrm>
            <a:off x="6858000" y="4114800"/>
            <a:ext cx="1905120" cy="2563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6840" y="1599840"/>
            <a:ext cx="48769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 Ste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min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le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cess different from Europ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dividual Approa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litical Party Approa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9" name="Picture 2" descr="http://1.bp.blogspot.com/_tAjDC54H3jw/TAym8fd1EkI/AAAAAAAAAis/d16uwE4GuIA/s1600/PACE1.jpg"/>
          <p:cNvPicPr/>
          <p:nvPr/>
        </p:nvPicPr>
        <p:blipFill>
          <a:blip r:embed="rId2"/>
          <a:stretch/>
        </p:blipFill>
        <p:spPr>
          <a:xfrm>
            <a:off x="5486400" y="4572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www.euromove.org.uk/fileadmin/files_euromove/downloads/Political_Groups_EP_02.jpg"/>
          <p:cNvPicPr/>
          <p:nvPr/>
        </p:nvPicPr>
        <p:blipFill>
          <a:blip r:embed="rId3"/>
          <a:stretch/>
        </p:blipFill>
        <p:spPr>
          <a:xfrm>
            <a:off x="4724280" y="1371600"/>
            <a:ext cx="4345200" cy="2895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SIDENTI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NGRESSIONAL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ize/Turno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arge (50-60%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4 Yea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Competitivenes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ore Competitiv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arely Large Victor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nce 1932 GOP wins Election 44.5%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45080" y="2361960"/>
            <a:ext cx="43466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ize/Turnou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ff-Year Small (36%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2 Years House of Rep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6 Years for Senate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Competitiveness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ess Competitiv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cumbent Advantage (90%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nce 1932 GOP wins House 17%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SIDENTIA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NGRESSION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Accountabil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gurehead of Gov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ll Credit or All Bla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oth Political and Economic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sponsibil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ation as a whol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enefit Nation NOT communi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44720" y="2361960"/>
            <a:ext cx="44989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Accountabil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ore than one in Offic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asy to Blame Other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dividuality (coattail declin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sponsibil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tate/Loca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ake Responsibility for Local and State Gran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2797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“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Presidential Caliber”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ook Appeal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dia Friend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ersonalit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ame Recogni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eadership Experien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4" name="Picture 4" descr="http://www.gannett-cdn.com/media/USATODAY/USATODAY/2012/09/20/KENNEDY_NIXON_DEBATE-4_3_r536_c534.JPG?1b79b3da202957124496e3768cfb7b67cdb10c81"/>
          <p:cNvPicPr/>
          <p:nvPr/>
        </p:nvPicPr>
        <p:blipFill>
          <a:blip r:embed="rId2"/>
          <a:stretch/>
        </p:blipFill>
        <p:spPr>
          <a:xfrm>
            <a:off x="4800600" y="1905120"/>
            <a:ext cx="3973680" cy="2990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Announce Candidacy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eech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oter Interac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taffing/Organiz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arge Staff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me must be Pai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olunteers for Fund-Rais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ocal Campaig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1055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8" name="Picture 2" descr="https://encrypted-tbn1.gstatic.com/images?q=tbn:ANd9GcRL11N-lYPE1_NVZFZHajxSYLcn0Hk45svns75G2hTAbPBy9oZKhA"/>
          <p:cNvPicPr/>
          <p:nvPr/>
        </p:nvPicPr>
        <p:blipFill>
          <a:blip r:embed="rId2"/>
          <a:stretch/>
        </p:blipFill>
        <p:spPr>
          <a:xfrm>
            <a:off x="5181480" y="1981080"/>
            <a:ext cx="3714840" cy="2476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Users\Johnson Family\AppData\Local\Microsoft\Windows\Temporary Internet Files\Content.IE5\0B0427GR\MM900315822[1].gif"/>
          <p:cNvPicPr/>
          <p:nvPr/>
        </p:nvPicPr>
        <p:blipFill>
          <a:blip r:embed="rId3"/>
          <a:stretch/>
        </p:blipFill>
        <p:spPr>
          <a:xfrm>
            <a:off x="6629400" y="472428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-36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ime/Money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ime=Mone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imits on amount of $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Strategy/Them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tuation (Incumbent/Challenger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o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im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dividual Recor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wing Stat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arget Vote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3" name="irc_mi" descr="http://www.inc.com/uploaded_files/image/091312_Cash_Campaign_POP_IN1012BTS01_20361.jpg"/>
          <p:cNvPicPr/>
          <p:nvPr/>
        </p:nvPicPr>
        <p:blipFill>
          <a:blip r:embed="rId2"/>
          <a:stretch/>
        </p:blipFill>
        <p:spPr>
          <a:xfrm>
            <a:off x="4572000" y="1981080"/>
            <a:ext cx="4419720" cy="3276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1520" cy="1158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-36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Who and How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Constitution Specific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limited # of Term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ate Separated by Distric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lapportionment-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nequal Representatio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xas 1962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errymandering-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olitical Party Favoring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alifornia 1960’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964 Supreme Cour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draw Every 10 Year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86240" y="3123720"/>
            <a:ext cx="19810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7" name="Picture 2" descr="http://upload.wikimedia.org/wikipedia/commons/thumb/9/96/The_Gerry-Mander_Edit.png/733px-The_Gerry-Mander_Edit.png"/>
          <p:cNvPicPr/>
          <p:nvPr/>
        </p:nvPicPr>
        <p:blipFill>
          <a:blip r:embed="rId2"/>
          <a:stretch/>
        </p:blipFill>
        <p:spPr>
          <a:xfrm>
            <a:off x="5943600" y="1447920"/>
            <a:ext cx="2859120" cy="2993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s://encrypted-tbn2.gstatic.com/images?q=tbn:ANd9GcQMVWX5S4WOaaSI11e8ATvRucToAObxcVqMDltwpmVaaDk_vtOk"/>
          <p:cNvPicPr/>
          <p:nvPr/>
        </p:nvPicPr>
        <p:blipFill>
          <a:blip r:embed="rId3"/>
          <a:stretch/>
        </p:blipFill>
        <p:spPr>
          <a:xfrm>
            <a:off x="6095880" y="4572000"/>
            <a:ext cx="2743200" cy="20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File:Iowa Congressional Districts with Counties, 2012-2022.svg"/>
          <p:cNvPicPr/>
          <p:nvPr/>
        </p:nvPicPr>
        <p:blipFill>
          <a:blip r:embed="rId1"/>
          <a:stretch/>
        </p:blipFill>
        <p:spPr>
          <a:xfrm>
            <a:off x="1371600" y="990720"/>
            <a:ext cx="7086600" cy="547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8:49:33Z</dcterms:created>
  <dc:creator>johnson104671</dc:creator>
  <dc:description/>
  <dc:language>en-US</dc:language>
  <cp:lastModifiedBy>lullmannj</cp:lastModifiedBy>
  <dcterms:modified xsi:type="dcterms:W3CDTF">2013-03-28T11:57:05Z</dcterms:modified>
  <cp:revision>23</cp:revision>
  <dc:subject/>
  <dc:title>Presidential versus Congressional Campaigns</dc:title>
</cp:coreProperties>
</file>